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E3B-39D3-42C8-A838-BDF04B52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F698-D1D5-4529-97B0-DB3E8A8A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215-4B1B-42CB-8A60-9D6681A5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BF5-BC99-4AFC-BE92-87379C53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4B9-A3F1-4A4A-92E6-F3178DF6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E93-BF03-47ED-861C-3F4507B4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A39F-14E4-4761-B1E1-FC2E9D9C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839-1548-4DFC-902F-5BF2BCA0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461-8F79-4A11-8D4B-A0CA3DB0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305-EB69-4C25-8685-69A56999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0FD-2D92-49F2-8040-76D66C5B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76D-D35F-4ACD-AE33-9A3BF6A1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B222-1642-4C8D-8DA0-725136C4A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6172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7:09:15Z</dcterms:created>
  <dc:creator>Carolyn Spielmann</dc:creator>
  <dc:description/>
  <dc:language>en-US</dc:language>
  <cp:lastModifiedBy>Carolyn Spielmann</cp:lastModifiedBy>
  <dcterms:modified xsi:type="dcterms:W3CDTF">2010-01-11T17:09:26Z</dcterms:modified>
  <cp:revision>1</cp:revision>
  <dc:subject/>
  <dc:title>Comparing Presidents</dc:title>
</cp:coreProperties>
</file>